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0B4BA-F4B2-4F33-A324-5069831E73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990FF-2F30-4365-A2E8-B5E17146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B1889-9A7E-4EBB-9828-2873F9D7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6A6C3-C490-48DB-8422-9575997C84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FA231-89A8-4399-BC92-D275ACA0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20F27-9D83-41BB-A71E-BFCB506E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58E2F-6822-423D-845A-A3887231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474B4-6554-443F-A469-ED31513E3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D82A6-D206-48E3-9214-9D938875B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4CAC7-7FF2-4E96-9524-39D8BDEA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2E40E-A810-436B-A0EE-5E56ABDB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8141C-31AB-4B25-B254-544ABAA0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390B-E757-4CF0-9242-9AADB6AFADD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3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人工合成抗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诺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nor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又名氟哌酸，抗菌谱广。口服后迅速吸收，组织分布良好，因食物影响其吸收，宜空腹服药。尿中浓度高，主要用于泌尿道、肠道、呼吸道感染和淋病等的治疗；肝肾功能不良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4155840" y="271440"/>
            <a:ext cx="321804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常用氟喹诺酮类药物特点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环丙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cipr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抗菌活性强。适用于泌尿道、肠道、胆道、盆腔、皮肤软组织和眼、耳鼻咽喉等部位的感染。不良反应较多，除胃肠道反应外，还可引起中枢神经系统反应、肝损害、血液系统反应、过敏反应等毒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氧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又名氟嗪酸，抗菌谱较诺氟沙星广，抗菌作用增强。临床主要用于呼吸道感染、泌尿道感染和妇科感染，对伤寒、副伤寒疗效肯定。不良反应发生率较其他喹诺酮类药物低，但应注意光敏性皮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左氧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lev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抗菌活性很强，口服吸收良好，血药浓度高，体内分布广，半衰期长。对各种急性、慢性感染及难治性感染有效。不良反应少而轻，多为皮疹、胃肠道反应等，偶致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司帕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spar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新开发的长效品种，半衰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.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抗菌谱广，抗菌活性强。对革兰阳性菌活性明显优于环丙沙星。对结核杆菌作用强，可望成为治疗对异烟肼、利福平耐药结核菌感染的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二节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磺胺类药物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777240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早出现的人工合成抗菌药，抗生素的问世使磺胺的应用逐渐减少，但由于其具有使用方便、价格低廉等优点，尤其与抗菌增效剂甲氧苄嘧啶合用，在抗感染治疗中仍占有一定地位。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AutoShape 4">
            <a:hlinkClick r:id="rId1" action="ppaction://hlinksldjump"/>
          </p:cNvPr>
          <p:cNvSpPr/>
          <p:nvPr/>
        </p:nvSpPr>
        <p:spPr>
          <a:xfrm>
            <a:off x="8381880" y="6553080"/>
            <a:ext cx="533520" cy="152640"/>
          </a:xfrm>
          <a:custGeom>
            <a:avLst/>
            <a:gdLst>
              <a:gd name="textAreaLeft" fmla="*/ 9720 w 533520"/>
              <a:gd name="textAreaRight" fmla="*/ 523800 w 53352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75371" h="21600">
                <a:moveTo>
                  <a:pt x="0" y="0"/>
                </a:moveTo>
                <a:lnTo>
                  <a:pt x="75371" y="0"/>
                </a:lnTo>
                <a:lnTo>
                  <a:pt x="75371" y="21600"/>
                </a:lnTo>
                <a:lnTo>
                  <a:pt x="0" y="21600"/>
                </a:lnTo>
                <a:close/>
              </a:path>
              <a:path fill="lightenLess" w="75371" h="21600">
                <a:moveTo>
                  <a:pt x="0" y="0"/>
                </a:moveTo>
                <a:lnTo>
                  <a:pt x="75371" y="0"/>
                </a:lnTo>
                <a:lnTo>
                  <a:pt x="73971" y="1400"/>
                </a:lnTo>
                <a:lnTo>
                  <a:pt x="1400" y="1400"/>
                </a:lnTo>
                <a:close/>
              </a:path>
              <a:path fill="darken" w="75371" h="21600">
                <a:moveTo>
                  <a:pt x="75371" y="0"/>
                </a:moveTo>
                <a:lnTo>
                  <a:pt x="75371" y="21600"/>
                </a:lnTo>
                <a:lnTo>
                  <a:pt x="73971" y="20200"/>
                </a:lnTo>
                <a:lnTo>
                  <a:pt x="73971" y="1400"/>
                </a:lnTo>
                <a:close/>
              </a:path>
              <a:path fill="darkenLess" w="75371" h="21600">
                <a:moveTo>
                  <a:pt x="753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971" y="20200"/>
                </a:lnTo>
                <a:close/>
              </a:path>
              <a:path fill="lighten" w="753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371" h="21600">
                <a:moveTo>
                  <a:pt x="30679" y="3794"/>
                </a:moveTo>
                <a:lnTo>
                  <a:pt x="44692" y="10800"/>
                </a:lnTo>
                <a:lnTo>
                  <a:pt x="30679" y="17806"/>
                </a:lnTo>
                <a:close/>
              </a:path>
            </a:pathLst>
          </a:custGeom>
          <a:solidFill>
            <a:srgbClr val="ddb523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药物简介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药物分类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吸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嘧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pyridine,SD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甲噁唑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methoxazol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MZ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不吸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柳氮磺吡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salazin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S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局部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米隆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afenid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醋酰钠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cetamide sodiu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-N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嘧啶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diazine silver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D-Ag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610480" cy="31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谷氨酸                                                                                食物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        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二氢叶酸合成酶                     二氢叶酸还原酶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二氢蝶啶                            二氢叶酸                          四氢叶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氨苯甲酸                                                                     一碳单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PABA)                                                                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核酸合成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7696080" y="342900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692aa2"/>
          </a:solidFill>
          <a:ln w="1260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1" name="Group 14"/>
          <p:cNvGrpSpPr/>
          <p:nvPr/>
        </p:nvGrpSpPr>
        <p:grpSpPr>
          <a:xfrm>
            <a:off x="2050920" y="1700280"/>
            <a:ext cx="5621400" cy="1713240"/>
            <a:chOff x="2050920" y="1700280"/>
            <a:chExt cx="5621400" cy="1713240"/>
          </a:xfrm>
        </p:grpSpPr>
        <p:sp>
          <p:nvSpPr>
            <p:cNvPr id="152" name="AutoShape 3"/>
            <p:cNvSpPr/>
            <p:nvPr/>
          </p:nvSpPr>
          <p:spPr>
            <a:xfrm>
              <a:off x="2050920" y="2313360"/>
              <a:ext cx="1752840" cy="72000"/>
            </a:xfrm>
            <a:prstGeom prst="rightArrow">
              <a:avLst>
                <a:gd name="adj1" fmla="val 50000"/>
                <a:gd name="adj2" fmla="val 60862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4"/>
            <p:cNvSpPr/>
            <p:nvPr/>
          </p:nvSpPr>
          <p:spPr>
            <a:xfrm>
              <a:off x="5292720" y="2313360"/>
              <a:ext cx="1676520" cy="72000"/>
            </a:xfrm>
            <a:prstGeom prst="rightArrow">
              <a:avLst>
                <a:gd name="adj1" fmla="val 50000"/>
                <a:gd name="adj2" fmla="val 58212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5"/>
            <p:cNvSpPr/>
            <p:nvPr/>
          </p:nvSpPr>
          <p:spPr>
            <a:xfrm>
              <a:off x="7596360" y="2585160"/>
              <a:ext cx="75960" cy="359640"/>
            </a:xfrm>
            <a:prstGeom prst="downArrow">
              <a:avLst>
                <a:gd name="adj1" fmla="val 50000"/>
                <a:gd name="adj2" fmla="val 11836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AutoShape 7"/>
            <p:cNvSpPr/>
            <p:nvPr/>
          </p:nvSpPr>
          <p:spPr>
            <a:xfrm>
              <a:off x="7596360" y="1700280"/>
              <a:ext cx="75960" cy="359640"/>
            </a:xfrm>
            <a:prstGeom prst="downArrow">
              <a:avLst>
                <a:gd name="adj1" fmla="val 50000"/>
                <a:gd name="adj2" fmla="val 11836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2455200" y="2585160"/>
              <a:ext cx="729360" cy="82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↑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磺胺类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364000" y="2586600"/>
              <a:ext cx="1584360" cy="825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↑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甲氧苄啶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作用机制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2901240" y="4989600"/>
            <a:ext cx="270000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磺胺药抗菌原理示意图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抗菌谱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大多数革兰阳性菌和某些革兰阴性菌有抑制作用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沙眼衣原体、疟原虫也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立克次体和支原体无效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学习重点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氟喹诺酮类、磺胺类药物的抗菌谱、作用机制、适应证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甲氧苄啶的抗菌作用机制及其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硝基呋喃类和硝基咪唑类的作用和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菌机制与指导临床用药相关意义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药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二氢叶酸合成酶呈竞争性对抗，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二氢叶酸合成酶的亲和力较磺胺药类强，故磺胺药应用需足量且首剂加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脓液及坏死组织内含大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故化脓性感染或坏死组织选用磺胺药疗效不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药对人影响小，因人可以直接利用食物中的叶酸，不需自身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全身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嘧啶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D)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血浆蛋白结合率低，易透过血脑屏障，在脑脊液中浓度高，流行性脑脊髓膜炎的首选药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甲噁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SMZ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道、消化道和呼吸道感染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幼圆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肠道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柳氮磺吡啶，肠道难吸收，在肠道中释放出磺胺吡啶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水杨酸，发挥抗菌、抗炎和免疫抑制作用。为治疗溃疡性结肠炎的首选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局部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嘧啶银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烧伤、烫伤创面的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米隆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烧伤和大面积创伤后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醋酰钠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部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不良反应和药疗监护须知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系统损害：易在尿中沉积，出现血尿、蛋白尿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防治措施：    ① 服等量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a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以增加溶解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②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饮水，加速排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③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查尿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敏反应：用药前应询问过敏史，发现过敏现象，立即停药，并给予抗过敏药治疗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系统反应：白细胞减少、粒细胞减少等，应定期检查血象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：恶心、呕吐、厌食、头痛、乏力，精神不振等，一般不需停药，对驾驶员、高空作业及操纵机器者慎用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三节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甲氧苄啶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甲氧苄啶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rimethoprim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MP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又称磺胺增效剂，属广谱抗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通过抑制二氢叶酸还原酶，阻止四氢叶酸合成，从而阻止细菌核酸的合成。因而与磺胺类药合用，可使抗菌作用增强甚至可呈现杀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常用复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Verdana"/>
                <a:ea typeface="宋体"/>
              </a:rPr>
              <a:t>   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SMZ+TMP——   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  <a:ea typeface="宋体"/>
              </a:rPr>
              <a:t>复方新诺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    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SMZ+SD+TMP—— 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  <a:ea typeface="宋体"/>
              </a:rPr>
              <a:t>增效联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四节 硝基呋喃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妥因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坦啶，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nitrofurantoin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部分以原形经肾脏排泄，尿中浓度高，治疗泌尿道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唑酮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痢特灵，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furazolidone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不吸收，治疗肠炎、痢疾和消化道溃疡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硝基呋喃类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五节 硝基咪唑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硝基咪唑类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etro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替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i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奥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r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厌氧菌或混合性腹腔感染、细菌性或滴虫性阴道炎、脑脓肿等。也用于肠道手术前准备，与克林霉素、奥美拉唑合用治疗幽门螺杆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6" descr="6a6b7068gw1e7fnef8edmj20p00gojx2"/>
          <p:cNvPicPr/>
          <p:nvPr/>
        </p:nvPicPr>
        <p:blipFill>
          <a:blip r:embed="rId1"/>
          <a:stretch/>
        </p:blipFill>
        <p:spPr>
          <a:xfrm>
            <a:off x="755640" y="1268280"/>
            <a:ext cx="7561440" cy="45849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7"/>
          <p:cNvSpPr/>
          <p:nvPr/>
        </p:nvSpPr>
        <p:spPr>
          <a:xfrm>
            <a:off x="3348000" y="5877000"/>
            <a:ext cx="20160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Monotype Corsiva"/>
                <a:ea typeface="宋体"/>
              </a:rPr>
              <a:t>The end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25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一节 </a:t>
            </a:r>
            <a:br>
              <a:rPr sz="4400"/>
            </a:b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氟喹诺酮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14040" y="1676160"/>
            <a:ext cx="7467480" cy="24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幼圆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代    萘啶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代    吡哌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代    氟喹诺酮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代    莫西沙星、加替沙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684360" y="907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楷体_GB2312"/>
              </a:rPr>
              <a:t>一、</a:t>
            </a: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发展史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4" descr="42-1"/>
          <p:cNvPicPr/>
          <p:nvPr/>
        </p:nvPicPr>
        <p:blipFill>
          <a:blip r:embed="rId1"/>
          <a:stretch/>
        </p:blipFill>
        <p:spPr>
          <a:xfrm>
            <a:off x="2195640" y="4149720"/>
            <a:ext cx="403848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440" y="9140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第三代    氟喹诺酮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684360" y="1989000"/>
            <a:ext cx="7991280" cy="237492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诺氟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norfloxacin)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环丙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iprofloxacin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氧氟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ofloxacin)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诺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enoxacin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氧氟沙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levofloxacin)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洛美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lomefloxacin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罗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leroxacin)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司帕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sparfloxacin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	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4724280"/>
            <a:ext cx="7632720" cy="531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品种多，高效，广谱，是当前临床上治疗细菌感染性疾病非常重要的一类抗菌药物。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30592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喹诺酮类通过抑制细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回旋酶，阻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制而产生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95280" y="105264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宋体"/>
              </a:rPr>
              <a:t>二、抗菌作用机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8" descr="42-2"/>
          <p:cNvPicPr/>
          <p:nvPr/>
        </p:nvPicPr>
        <p:blipFill>
          <a:blip r:embed="rId1"/>
          <a:srcRect l="10770" t="2737" r="6310" b="0"/>
          <a:stretch/>
        </p:blipFill>
        <p:spPr>
          <a:xfrm>
            <a:off x="2627280" y="2492280"/>
            <a:ext cx="47530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三、氟喹诺酮类药物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口服吸收良好，分布广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对革兰阴性和部分阳性菌有作用，有些品种对铜绿假单胞菌、淋球菌有强大抗菌作用，对厌氧菌作用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与其他抗生素交叉抗药性较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三、氟喹诺酮类药物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用于敏感菌所致的呼吸道、泌尿系统、肠道感染、骨、关节、皮肤和软组织等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现因广泛使用，细菌耐药性逐渐增多，切勿滥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消化道反应、中枢兴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变态反应（如光敏反应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关节病变，发生关节病、关节肿胀和肌腱炎等症状，小儿和孕妇禁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611280" y="1197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四、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药疗监护须知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在规定时间空腹服用，服药后多饮水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服药期间不宜饮用咖啡及浓茶，以防导致失眠、神  经过敏、心动过速等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静滴时速度不宜过快，防止诱发惊厥和癫痫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长期应用应监测肝肾功能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以上者，应注意是否出现关节症状，一旦  出现应及时报告医生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服药期间应避免日光直射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17:47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